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60572-00B7-4E38-B652-E409E60D5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4D01C-B6AB-4F7C-A697-6F92B5CC0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7A8521-E0F0-495B-AAF4-077D347B7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3913E-CB8B-41A4-92A0-D05A2AEFB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30D0E27-11C9-4870-B4DD-022E5504F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D64191-8CB5-4702-9FFB-80A4C5892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1EE362-3997-48EB-BB56-2B938A153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B757BCD-3F4E-4AB0-AEDC-3C4C7F583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C484C92-2A77-47A8-9247-5DCDFA8BD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8EF8F7-17D0-4642-86D5-A307F84FF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1AFFC1-9665-4E52-BBDC-18178C335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EAF9E-94A6-42D2-9500-B68F5C996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ADDE27-40F6-4958-A78F-4C9170B2C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FACFCE-8517-475B-8C02-895DA71B6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B8A15B4-0563-4E3F-A6D0-29EF4E665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1342F33-E442-4073-B695-F1EDA1C0CB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86E795B-F81A-4632-88BF-B0E171AC6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AE8E2-85A2-4922-865A-E610EC1F4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4871D-DD2B-4ECA-8A1F-D0AC16B18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E88EF-A1C3-43BE-B712-D2D6B92CF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31727-7209-4069-8B77-2F469F37A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8F1BC-E43F-4E28-B052-4511F7EFC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77091-F30D-4E14-BC6B-0113D3DFA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78B93-1155-4B22-8BE6-5D8E820DE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A8BE-A43E-4E7A-8BD0-7E52DED2E7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E51A-928E-493A-B9C6-D96C811BC9A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371600" y="3428640"/>
            <a:ext cx="6400800" cy="205740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hort Stories</a:t>
            </a:r>
            <a:endParaRPr b="0" lang="en-US" sz="20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Unit Portfolio Presentation</a:t>
            </a:r>
            <a:br>
              <a:rPr sz="1600"/>
            </a:br>
            <a:endParaRPr b="0" lang="en-US" sz="20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hyl Grace A. Namuag</a:t>
            </a: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risty Marie L. Navarro</a:t>
            </a:r>
            <a:br>
              <a:rPr sz="1600"/>
            </a:b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 name=""/>
          <p:cNvSpPr txBox="1"/>
          <p:nvPr/>
        </p:nvSpPr>
        <p:spPr>
          <a:xfrm>
            <a:off x="1219320" y="1066680"/>
            <a:ext cx="670536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ITERATUR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Unit Summary</a:t>
            </a:r>
            <a:endParaRPr b="0" lang="en-US" sz="4400" spc="-1" strike="noStrike">
              <a:solidFill>
                <a:srgbClr val="e3e3ff"/>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erature represents a language or a people: culture and tradition. But, literature is more important than just a historical or cultural artifact. Literature introduces us to new worlds of experience. We learn about books; we enjoy the comedies and the tragedies of poems, stories, and plays; and we may even grow and evolve through our literary journey with books. It is through reading such great literary and poetic works, that one understands life. They help a person take a closer look at the different facets of life. In many ways, it can change one's perspective towards life. And finds connections between the book and the outside world. Connects the reading to things in their own life, other people, other stories or books, happenings at school, or similar events from other times and places. Shares their connections with the group and asks for comments from the grou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urriculum-Framing Questions</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sential Ques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y is it important to study literatur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t Question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ow does literature meet the interest of the student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y do we read literary work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 Question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What are the elements of the literatur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Project Approaches</a:t>
            </a:r>
            <a:endParaRPr b="0" lang="en-US" sz="4400" spc="-1" strike="noStrike">
              <a:solidFill>
                <a:srgbClr val="e3e3ff"/>
              </a:solidFill>
              <a:latin typeface="Arial"/>
            </a:endParaRPr>
          </a:p>
        </p:txBody>
      </p:sp>
      <p:sp>
        <p:nvSpPr>
          <p:cNvPr id="129"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9000"/>
          </a:bodyPr>
          <a:p>
            <a:pPr marL="339480" indent="-339480" algn="just">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construct meaning as they comprehend, interpret, analyze and respond to literary works.</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recognize and evaluate how language, literary devices, and elements contribute to the meaning and impact of literary works.</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reflect upon their literary experiences and purposefully select from a range of works.</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interact with print and non-print literary works from various cultures, ethnic groups, traditional and contemporary viewpoints written by both genders.</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tudents use literary works to enrich personal experience and to connect to the broader world of ideas concepts and issues. </a:t>
            </a:r>
            <a:endParaRPr b="0" lang="en-US" sz="2000" spc="-1" strike="noStrike">
              <a:solidFill>
                <a:srgbClr val="ffffff"/>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gn="just">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udents will present a documentation of the story that they have chosen through power point presentation.</a:t>
            </a:r>
            <a:endParaRPr b="0" lang="en-US" sz="2000" spc="-1" strike="noStrike">
              <a:solidFill>
                <a:srgbClr val="ffffff"/>
              </a:solidFill>
              <a:latin typeface="Arial"/>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21</a:t>
            </a:r>
            <a:r>
              <a:rPr b="1" lang="en-US" sz="4400" spc="-1" strike="noStrike" baseline="30000">
                <a:solidFill>
                  <a:srgbClr val="e3e3ff"/>
                </a:solidFill>
                <a:latin typeface="Arial"/>
              </a:rPr>
              <a:t>st</a:t>
            </a:r>
            <a:r>
              <a:rPr b="1" lang="en-US" sz="4400" spc="-1" strike="noStrike">
                <a:solidFill>
                  <a:srgbClr val="e3e3ff"/>
                </a:solidFill>
                <a:latin typeface="Arial"/>
              </a:rPr>
              <a:t> Century Learning</a:t>
            </a: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llaborating with peer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Analyzing the stor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the story and identify, from memory or rereading the text, the setting, main character, minor character, and plo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Communicating with others through giving feedback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Gauging Student Needs Assessment</a:t>
            </a:r>
            <a:endParaRPr b="0" lang="en-US" sz="3600" spc="-1" strike="noStrike">
              <a:solidFill>
                <a:srgbClr val="e3e3ff"/>
              </a:solidFill>
              <a:latin typeface="Arial"/>
            </a:endParaRPr>
          </a:p>
        </p:txBody>
      </p:sp>
      <p:sp>
        <p:nvSpPr>
          <p:cNvPr id="133" name="PlaceHolder 2"/>
          <p:cNvSpPr>
            <a:spLocks noGrp="1"/>
          </p:cNvSpPr>
          <p:nvPr>
            <p:ph/>
          </p:nvPr>
        </p:nvSpPr>
        <p:spPr>
          <a:xfrm>
            <a:off x="457200" y="1294920"/>
            <a:ext cx="8229600" cy="4496040"/>
          </a:xfrm>
          <a:prstGeom prst="rect">
            <a:avLst/>
          </a:prstGeom>
          <a:noFill/>
          <a:ln w="0">
            <a:noFill/>
          </a:ln>
        </p:spPr>
        <p:txBody>
          <a:bodyPr lIns="90000" rIns="90000" tIns="46800" bIns="46800" anchor="t">
            <a:normAutofit/>
          </a:bodyPr>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rpose of the Assessment</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gather information about what students </a:t>
            </a: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ready know and what they wonder about</a:t>
            </a: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stories.</a:t>
            </a: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 want to learn from my students?</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want to find out what they already know about the Unit Questions</a:t>
            </a: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what they know about the elements of literature.</a:t>
            </a: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I have tried to promote higher-order thinking?</a:t>
            </a:r>
            <a:endParaRPr b="0" lang="en-US" sz="24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ask students to make their own short story and make reflections</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Gauging Student Needs Assessment</a:t>
            </a:r>
            <a:endParaRPr b="0" lang="en-US" sz="36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the assessment information helps me and my students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 for upcoming activities in the unit?</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students experience discouragements and hardship, I can</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short stories that will encourage them. If the students will</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the difficulty of identifying elements of literature, I can discuss</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have individual consultations in class.</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feedback or additional ideas I’d like?</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help assessing students’ higher-order thinking skills.</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need some strategies so that it is easy for the students to</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derstand the short stories without having individual </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ultations.</a:t>
            </a: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My Goals</a:t>
            </a: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different short stories that wil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tivate my studen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ways to get my students to do mor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er-order think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y students will create their own short sto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Have A Nice Day!</a:t>
            </a:r>
            <a:endParaRPr b="0" lang="en-US" sz="7200" spc="-1" strike="noStrike">
              <a:solidFill>
                <a:srgbClr val="ffffff"/>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ffffff"/>
              </a:solidFill>
              <a:latin typeface="Arial"/>
            </a:endParaRPr>
          </a:p>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God Bless!</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19:21:41Z</dcterms:created>
  <dc:creator>nave1386</dc:creator>
  <dc:description/>
  <dc:language>en-US</dc:language>
  <cp:lastModifiedBy>nave1386</cp:lastModifiedBy>
  <dcterms:modified xsi:type="dcterms:W3CDTF">2010-09-23T19:33:22Z</dcterms:modified>
  <cp:revision>10</cp:revision>
  <dc:subject/>
  <dc:title>Slide 1</dc:title>
</cp:coreProperties>
</file>